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602-B7F0-4548-BC9B-1BFE9794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327-EF1C-4ACC-B50F-07EAE391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C20-D300-44E0-BFF5-BF6DBB71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15F-6E13-4D77-8E96-9E4943D9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5EB-A8BE-4516-8939-96511A0C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7B3A-B906-4920-B770-7E8A50C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423-D533-4B84-8340-AB252B5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5477-D55D-4C09-99C0-5E84F0B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F31B-3D10-4F4C-B582-C02801FB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B732-B6A0-47FF-AF38-75DBA63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2BE8-02F5-47B3-AFFE-724C853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F29-19C5-43EF-81F0-C1A24659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7C7E-FF76-4DE2-86C3-F695582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161-83B4-42EE-A463-C55379D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3735-C964-4D64-A5D2-9D80F874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B42-B840-4A5E-8F02-CB88A651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EF64-F712-4698-A6FE-5CE8D9CA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CDD-564C-4D48-9A40-58BD2B5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688-7F90-404B-A1B3-DE3B2763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252-D893-4387-9CC3-523F6DD2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EA3-4514-4C19-910A-7F03688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2CD-4851-44FE-BAAB-56A1433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DE8-4E7D-4554-AC1F-0343D4A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978-35AA-4681-A096-E3864F6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9659-2642-4A70-B781-C07EA130A1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F9C-0084-4579-8F6A-A26C13ECA6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ЕКСТОВЫЙ ПРОЦЕССОР WOR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514600"/>
            <a:ext cx="4495680" cy="4343400"/>
          </a:xfrm>
          <a:prstGeom prst="diamond">
            <a:avLst/>
          </a:prstGeom>
          <a:gradFill rotWithShape="0">
            <a:gsLst>
              <a:gs pos="0">
                <a:srgbClr val="7200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3120" y="367020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циплина: Информат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перации форматирован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9806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ают три основные операции форматир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9051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тирование символо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Этот термин несколько  неточен,  так как под символом могут пониматься не только отдельная буква, но и слова, предложения, абзацы и даже целые тексты. При форматировании символов речь идет, в основном, об изменении шриф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8098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тирование абзаце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д форматированием абзацев понимается изменение размеров полей отдельных абзацев в тексте,  изменение интервалов между строками и выравнивание абзаце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тирование  страни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Под форматированием страниц понимают выбор размера, ориентации и полей стра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атирование абзац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 абзацем в Word понимается часть документа, за которой следует маркер абзаца. При вводе текста абзац всегда заканчивают нажатием клавиш "Enter". Появляющийся при этом символ, так называемый маркер абзаца, означает конец абзаца и указывает на то,  что далее начинается новый абзац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ркер абзаца содержит информацию о форматировании абзаца. Для того чтобы при выделении абзаца сохранить его оформление,  необходимо включить в выделение и маркер абза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6408" t="66545" r="76610" b="28397"/>
          <a:stretch/>
        </p:blipFill>
        <p:spPr>
          <a:xfrm>
            <a:off x="6084720" y="4076640"/>
            <a:ext cx="79704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атирование абзац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9640" indent="-89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атирование  абзаца включает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равнивание абза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тупы абза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туп первой строки абзац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между строками (межстрочный интервал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между абза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5086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положения абзаца на стра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равнивание абзаце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уется 4 вида выравни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ева (по умолчанию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а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триро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шир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тступы абзац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различных  видов выравнивания абзаца позволяет сделать один или несколько абзацев более узкими по сравнению с  остальн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тупы абзаца, в отличие от полей страниц, устанавливаются только для отдельного абзац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ступ первой строки абза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ая строка  абзаца может быть сдвинута вправо или влево по отношению ко всему абзацу. Сдвиг влево может производиться за левый край по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Расстояние между стро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умолчанию Word устанавливает расстояние между строками в  оди интервал. Может быть установлено в полтора  или даже два интерва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76197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атирование символо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38600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авила использования атрибутов шрифт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икогда не используйте слишком много атрибутов.  Набрать слово полужирным курсивом, да еще подчеркнуть его - значит переусердств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 употребляйте атрибуты слишком часто.  Они должны привлекать внимание только к определенной части текста.  Если  же  каждое  второе слово набрано полужирным шрифтом или подчеркнуто,  то смысл форматирования символов пропа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Используйте  жирную  печать  или  подчеркивание в заголовках и особо важных фрагментах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76197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орматирование символо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вила использования атрибутов шриф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яйте курсив для цитат, примечаний и указ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яйте индексы только в химических формулах,  математических выражениях или снос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авила выбора размера шриф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Основной шрифт должен иметь размер от 8 до 12 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Мелкая печать (примечания, сноски и т.д.) должна быть не менее 6 пун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Заголовки в письмах выделяются жирным шрифтом.  Изменение размера шрифта для выделения в этом случае не практикуется. В отчетах или статьях для  заголовков  употребляется 14-24 пунк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Для  оформления  газет,  журналов  или плакатов с помощью Word можно в порядке исключения использовать шрифт размером 24,  32, 48, 72 и даже более пун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Буквицы могут превышать нормальный размер шрифта в  абзаце  не более чем на 2-3 пун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онятия  Wor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3670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Стиль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Шаблон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Поля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Макрос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Таблиц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Кадр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Раздел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Стиль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01840" y="1522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бор параметров форматирования шрифта и абзаце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оторый имеет определенное имя. Имя позволяет быстро найти, выбрать стиль и автоматически установ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раметры форматирования символ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имя шрифта, кегль, подчеркивание, цвет, специальные эффекты, верхние и нижние индексы, атрибут скрытый текст, капитель (малые заглавные), заглавные буквы, межсимвольный интервал, расположение по вертикал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араметры форматирования абзаце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тступы левый, правый, вертикальный, красную строк, интервал между строками (интерлиньяж) , выравнивание(слева, справа, по центру, оба края),  контроль висячих строк, запрещение разрыва между страницами, принудительный разрыв страницы перед началом абзаца, нумерация строк, автоматическая расстановка переносов, расположение позиций табуляции, кадр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самых популярных текстовых процессоров для работы в среде Windows. Позволяет осуществлять набор, редактирование и верстку текстов любой сложности, вставлять в текст иллюстрации , таблицы, формулы, изготовлять типовые доку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569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MS WOR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Стиль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15228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воляет автоматизировать процесс формати-рования символов и абзацев. Позволяет легко и быстро изменить внешний вид всего документа изменением одного или нескольких сти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981080"/>
            <a:ext cx="8458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Word содержит два типа стилей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ли абзацев (по умолчанию действует один стиль 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ормальн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ли символов (по умолчанию действует 6 стандартных стилей символов - Знак примечания, Шрифт абзаца по умолчанию, Знак КонСноски, Знак сноски, Номер строки, Номер страницы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Стиль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52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овом документе по умолчанию Word использует 5 стил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0"/>
            <a:ext cx="4495680" cy="4343400"/>
          </a:xfrm>
          <a:prstGeom prst="diamond">
            <a:avLst/>
          </a:prstGeom>
          <a:gradFill rotWithShape="0">
            <a:gsLst>
              <a:gs pos="0">
                <a:srgbClr val="7200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99072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аль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оловок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оловок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оловок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рифт абзаца                                                         по умолч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487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дополнение к ним имеется еще 70 встроенных стилей, из которых 6 - стили символов, а 64 - стили абзацев.  Получить информацию о имеющихся стилях документа и применить их можно с помощью команды Формат\Таблица сти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3434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построить новые стили для оформления специальных текстов. Построение нового стиля сводится к выбору и установке значений для определенного набора параметров форматирования и назначению для этого набора уникального име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Стиль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80880"/>
            <a:ext cx="609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 окончании ввода абзаца Word автоматически устанавливает  стиль следующего абзаца по указаниям, имеющимся в стиле завершенного абзаца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при переходе от абзаца со стилем Заголовок автоматически включается стиль - Нормальн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Шаблон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52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модель или план создания документа, пустой документ с определенными свойств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имущества шаблонов - легкость создания множества однотипных документов (письма, бланки и т,д,). В шаблоне документа хранится содержимое документа (текст, графика и т.д.), параметры оформления страницы, элементы автотекста, стили, макросы, модифицированные меню, настройка клавиатуры и панелей инструментов, пользовательские панели инструментов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это собранное вместе определяет вид и методы работы с документ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ейший шаблон - Обычный (Normal) используется Word по умолча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аблоны «Другие документы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1671480"/>
            <a:ext cx="65516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Шаблон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15228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Times New Roman"/>
              </a:rPr>
              <a:t>предназначен для подготовки документов, имеющих типовые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6002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Word  имеются  шаблоны для большинства общепринятых типов документов, включающих служебные записки, отчеты или деловые письм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ьзователю  для подготовки нового документа достаточно выбрать нужный шаблон и заполнить соответствующие граф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Шаблон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15228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е шаблоны можно создавать тремя способ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184464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ть какой-либо документ и сохранить его как шаблон. Этот способ используют, когда какой-то документ часто используется по форме, а изменяется только текст (расшир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*.do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ить существующий шабл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ть новый шаблон с ну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Поля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1522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imes New Roman"/>
              </a:rPr>
              <a:t>это набор инструкций, указывающих программе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MS WORD </a:t>
            </a:r>
            <a:r>
              <a:rPr b="1" lang="ru-RU" sz="2400" spc="-1" strike="noStrike">
                <a:solidFill>
                  <a:srgbClr val="ffcc99"/>
                </a:solidFill>
                <a:latin typeface="Times New Roman"/>
              </a:rPr>
              <a:t>, что нужно вставить определенную информацию в месте расположения пол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6002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умент может содержать различные элементы, которые должны меняться параллельно с изменениями всего документа. Например перекрестные ссылки на страницы документа, номера рисунков в тексте и в подписи, даты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 WORD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воляет автоматизировать процесс вставки такой информации в текст. Автоматизация осуществляется с помощью скрытых от глаз пользователя инструкций 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дов пол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, выполнение которых и дает результат в виде вставки нужной информации в месте нахождения к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 WORD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ется более 60 различных по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Поля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522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омощью полей можно вставлять изменяемое содержимо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мера стран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ту и врем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сунки и другую графическую информацию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писи к рисунка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крестные ссылк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ществующий файл или его ча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 (файл другого приложения - электронную таблицу , рисунок, текст и т.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лавление, списки иллюстраций, таблиц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ный указа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33920" y="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ый экран Wo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487440"/>
            <a:ext cx="8458200" cy="6370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6629400" y="685800"/>
            <a:ext cx="6094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438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Строка заголов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724280" y="914040"/>
            <a:ext cx="53352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Строка мен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543800" y="685440"/>
            <a:ext cx="685800" cy="2057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26668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Управляющие  кноп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19520" y="1219320"/>
            <a:ext cx="457200" cy="12189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4382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Панель инструмен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90920" y="5638680"/>
            <a:ext cx="38088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3341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Строка состоя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057040"/>
            <a:ext cx="1526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276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Линей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12408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00"/>
                </a:solidFill>
                <a:latin typeface="Times New Roman"/>
              </a:rPr>
              <a:t>Линейки</a:t>
            </a:r>
            <a:r>
              <a:rPr b="0" lang="ru-RU" sz="2000" spc="-1" strike="noStrike">
                <a:solidFill>
                  <a:srgbClr val="720000"/>
                </a:solidFill>
                <a:latin typeface="Times New Roman"/>
              </a:rPr>
              <a:t> расположены сверху и слева от поля документа и позволяют изменить абзацный отступ, масштаб изображения страницы текста на экране, ширину колонок, размеры ячеек таблиц, устанавливать позиции табуля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80520" y="274320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Поля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2096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я пол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описывает тип содержимого, которое порождается этим поле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струк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позволяют задать диапазон действия пол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ци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позволяют менять различные параметры содержимого, порождаемого пол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0492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струкции пол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заключаются в пару фигурных скобок {}, внутри которых располагается имя поля, инструкции поля и оп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Макрос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2860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</a:rPr>
              <a:t>это набор стандартных процедур, действий , необходимых для выполнения какой-либо задачи автоматическ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324000" y="2494080"/>
            <a:ext cx="52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макрос имеет свое имя и представляет собой команду, созданную пользователем самостоятельно. Вместо того чтобы вручную делать отнимающие много времени и повторяющиеся действия, можно создать и запускать один макрос, который будет выполнять эту задач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1107" t="0" r="5584" b="48756"/>
          <a:stretch/>
        </p:blipFill>
        <p:spPr>
          <a:xfrm>
            <a:off x="4788000" y="3284640"/>
            <a:ext cx="396072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Макрос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538280"/>
            <a:ext cx="4788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росы часто используются для следующих цел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скорения часто выполняемых операций      редактирования или форматир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бъединения сложных коман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упрощения доступа к параметрам в диалоговых окна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автоматизации обработки сложных последовательных действий в задач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04920"/>
            <a:ext cx="53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макросов позволяет настроить Word под конкретного пользователя и его задач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314960" cy="31813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Таблиц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15228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имое таблиц может включать в себя числа, текст, график и т.д. После создания таблицы можно заполнять содержимое ячеек, размеры которых автоматически подстраиваются под размер информ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86064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создания таблиц можно использовать 2 пу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465300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нель инструментов - кнопка вставить табл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920">
              <a:lnSpc>
                <a:spcPct val="100000"/>
              </a:lnSpc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ню Таблица\Вставить табл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73680" y="2060640"/>
            <a:ext cx="3370320" cy="42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91456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Таблиц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52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imes New Roman"/>
              </a:rPr>
              <a:t>ПОЗВОЛЯЮТ ОСУЩЕСТВЛЯТЬ СЛЕДУЮЩИЕ 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3716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имое каждой ячейки можно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рматиров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бычным способ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Word позволяет автоматическ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образовать текст в таблицу и обратн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сле создания и заполнения таблицы ее вид можно изменять - вставлять новые столбцы, строки , удалять их, разбивать каждую ячейку, строку или столбец на части или наоборот объединять какие-то ячейки в од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создания и заполнения таблицы ее можно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сортирова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т,е, изменить порядок следования записей. Например расположить их по алфавиту. По умолчанию сортировка осуществляется по первому столбцу, но можно сортировать и по любому другому столб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Таблиц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1522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imes New Roman"/>
              </a:rPr>
              <a:t>СПЕЦИАЛЬНЫЕ ДЕЙСТВИЯ С ТАБЛИЦ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3716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cc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положение  печати в две колонки (скрыть сетку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ение вычислений (суммирование по строкам или столбцам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cc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сложных таблиц и сохранение их формата для использования в других документ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8120" y="22860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едины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ек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содержащий в себе информацию  разного вида: текст, график, таблицу и т.д. В последних версия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S WORD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место кадра используется понят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мки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Кадры 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048120"/>
            <a:ext cx="8534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помощью кадро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ожно выделять отдельные части докумен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располагать эти части в любом месте страницы, создавать страницы со сложной композици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кадро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ожно выбирать оформл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линейки, границы и т,д,), а также разрешать обтекание кадра тексто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Различия между надписью и рам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дписи и рамки представляют собой контейнеры для размещаемого на странице текста с изменяемыми разм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лее ранних версиях Microsoft Word рамки использовались для расположения текста вокруг графического объекта. В данной версии текст располагается вокруг графического объекта любого размера и формы без предварительного включения в поле или рам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 рамки необходимы для расположения текста и графического объекта, содержащих один или несколько определенных элемен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йте рамки, когда необходимо выполнить следующие действ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ть возможность перемещения текста из одной части документа в другую путем связывания надпис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ировать поля путем использования параметров н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Arial"/>
              </a:rPr>
              <a:t>панели инструмен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ова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и этом применяются объемные эффекты, фон, затенения, стили и цвета границ, а также залив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азличия между надписью и рамко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915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ачивать и отражать надпис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ять ориентацию текста при помощи команды Направление текста (меню Формат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ировать поля, а также изменять их групповое выравнивание или распреде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йте рамки, если текст или графический объект содержит следующие элемен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Примеч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меченные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знаками примеч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цевые или обычные сноски, помеченные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знаками снос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Разделы 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18900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воляют делить документ на части, отличающиеся друг от друга по оформлению элементов страницы (поля, формат бумаги, верхние и нижние колонтитулы, число колонок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351160"/>
            <a:ext cx="57117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только что созданный документ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Word состоит из одного раздела, но его можно разделить на несколько частей , вставляя знаки начала и конца разд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в раздел можно контролировать в нем оформление содержимого.    Например: можно использовать разное положение листа в разделах - альбомный или книжны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8840" y="1773360"/>
            <a:ext cx="287316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33920" y="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ый экран Wo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487440"/>
            <a:ext cx="8458200" cy="637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05720" y="4724280"/>
            <a:ext cx="990360" cy="1371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629400" y="4114440"/>
            <a:ext cx="198108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956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Полосы прокрут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8006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33920" y="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ый экран Wo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487440"/>
            <a:ext cx="8458200" cy="637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2743200" y="1218960"/>
            <a:ext cx="53352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743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Панель инструмен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280" y="3200400"/>
            <a:ext cx="5562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20000"/>
                </a:solidFill>
                <a:uFillTx/>
                <a:latin typeface="Times New Roman"/>
              </a:rPr>
              <a:t>Если щелкнуть правой кнопкой мыши по  панели инструментов, то появится контекстно-зависимое меню, с помощью которого можно настроить все необходимые панели инструментов</a:t>
            </a:r>
            <a:r>
              <a:rPr b="0" i="1" lang="ru-RU" sz="2400" spc="-1" strike="noStrike" u="sng">
                <a:solidFill>
                  <a:srgbClr val="72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68657" t="0" r="855" b="4637"/>
          <a:stretch/>
        </p:blipFill>
        <p:spPr>
          <a:xfrm>
            <a:off x="6443640" y="549360"/>
            <a:ext cx="2232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920" y="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ый экран Wor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487440"/>
            <a:ext cx="8458200" cy="6370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762120" y="4724280"/>
            <a:ext cx="914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267080"/>
            <a:ext cx="289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00"/>
                </a:solidFill>
                <a:latin typeface="Times New Roman"/>
              </a:rPr>
              <a:t>Кнопки режимов просмотра документов, они же находятся в Меню  Ви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3323" t="0" r="65550" b="44517"/>
          <a:stretch/>
        </p:blipFill>
        <p:spPr>
          <a:xfrm>
            <a:off x="5076720" y="2205000"/>
            <a:ext cx="174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76720" y="26028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жимы просмотра  документ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2895120"/>
            <a:ext cx="8839080" cy="33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Разметка  страницы позволяет просмотреть документ в том виде , в котором он будет напечатан на принтере. Этот режим требует больших ресурсов компьютера. Положение графических вставок и других объектов можно просмотреть только в этом режи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Структура  документа используется для работы с большими документ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90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Обычный - требует меньше ресурсов, позволяет выполнять все основные операции с текс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165" t="79628" r="88936" b="16995"/>
          <a:stretch/>
        </p:blipFill>
        <p:spPr>
          <a:xfrm>
            <a:off x="216000" y="692280"/>
            <a:ext cx="37083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7315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трока состояния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9360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гает следить за активностью некоторых режимов и за текущим положением курс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ы строки состоя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омер страницы текущего раздела докумен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номер текущего разд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/У – номер страницы, где находится курсов/количесткво страниц в докумен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ХХ см - расстояние по вертикали между курсором и верхним краем стран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 Х - номер строки с курсором на данной стра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. Х - количество символов от левого поля до положения курсора в ст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86198" r="21085" b="4649"/>
          <a:stretch/>
        </p:blipFill>
        <p:spPr>
          <a:xfrm>
            <a:off x="684360" y="1197000"/>
            <a:ext cx="806436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орматирование текста и документ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905120"/>
            <a:ext cx="756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электронном редактировании все,  что  связано  с  оформлением текста и с изменением его внешнего вида,  входит в понятие "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тирова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8:29:59Z</dcterms:created>
  <dc:creator>Петрова И.Ю.</dc:creator>
  <dc:description/>
  <dc:language>en-US</dc:language>
  <cp:lastModifiedBy>BalausaT</cp:lastModifiedBy>
  <dcterms:modified xsi:type="dcterms:W3CDTF">2011-09-19T03:16:43Z</dcterms:modified>
  <cp:revision>19</cp:revision>
  <dc:subject/>
  <dc:title>ТЕКСТОВЫЙ ПРОЦЕССОР WORD</dc:title>
</cp:coreProperties>
</file>